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8881-8742-424E-A583-4EF265E8B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min Me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Event type if you go in as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dd new click the new but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only control those you man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6C3E-0D31-41D4-8321-25AA9D85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35E6-5F72-4ABB-B5FF-07B7042A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360F-649C-41EB-AC33-EDB8E083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FE8C-5BC3-475D-9713-FF414F5A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0568-7B37-4A2D-8889-14B7D454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CD3C-049B-491B-92CA-1EB75975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559A-C117-426E-A6AC-9B71D15B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A700-96FB-4497-A2A7-2012327B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6627-0BD6-433E-950D-CCAA7115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7495-E40B-4D98-94F0-53B5DE16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E8A5-850D-4ABB-866A-63E685A9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FB64-CBA1-4DCC-B588-A079DA9F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2E18-3070-4078-B54C-3C1995A1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0EA1-0708-4DA4-9F3C-4E93FADC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BB3F-FCC9-4664-81F4-766CD720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FBEB-396E-45CB-8AA3-F5DD94FA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F5BE-D122-476A-9389-8D2EDDD3B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495E-674E-4C6C-B555-98DC6816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1A57-D2BC-420D-A7E7-3CC474C6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59F2-6547-485C-A1A9-53CC5DDF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69D-5CD2-4468-BD60-D3B7CEC3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A41E-6086-46D6-9F67-3FF0B7E7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B4BB-1804-44CB-BC33-65AEC459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E5B7-93FE-4CD5-97B0-FA0A411D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4257-612B-43F8-B3A5-0A33FA055A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442A-5FE1-4006-9621-799AFC1D83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ist Manage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3" name="BS01029_" descr=""/>
          <p:cNvPicPr/>
          <p:nvPr/>
        </p:nvPicPr>
        <p:blipFill>
          <a:blip r:embed="rId2"/>
          <a:stretch/>
        </p:blipFill>
        <p:spPr>
          <a:xfrm>
            <a:off x="3200400" y="2743200"/>
            <a:ext cx="281304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hanges to a List - The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mple e.g., fixing typo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Just make the chang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Qualitative e.g, Adding a new Eligibility 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et other people who can help you reach consensus on the issu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hanges to a List Practic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han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hen you make a change to an existing list element all of history is changed to reflect that chang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on’t do this casuall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nactivate/Reactivat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4" name="j0213519" descr=""/>
          <p:cNvPicPr/>
          <p:nvPr/>
        </p:nvPicPr>
        <p:blipFill>
          <a:blip r:embed="rId2"/>
          <a:stretch/>
        </p:blipFill>
        <p:spPr>
          <a:xfrm>
            <a:off x="5943600" y="3962520"/>
            <a:ext cx="2038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mo Tim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8" name="bd00028_" descr=""/>
          <p:cNvPicPr/>
          <p:nvPr/>
        </p:nvPicPr>
        <p:blipFill>
          <a:blip r:embed="rId2"/>
          <a:stretch/>
        </p:blipFill>
        <p:spPr>
          <a:xfrm>
            <a:off x="2471760" y="1981080"/>
            <a:ext cx="4200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y a Lis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Your Role in the Appl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actice of Lis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dd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hang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ist Theory 101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group of like elements that replaces a table in the softw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efore and After sampl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ist Management Advanta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dding a new list is eas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One logic engine to manage many list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evelopment is more effici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ebugging is more effici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mpowers Users to manage the softwar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llows software to be dynamic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Users can change the software without calling in the Development Team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ist Management Disadvanta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ecause we’re using a power tool it’s easier to cause problem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at’s why we’re here toda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ist Manger Ro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ovide the Appropriate List eleme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ent Redundanc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unicate with the user community when you make an important chan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ll changes to a list will go through the list Manag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f a user wants a change, addition or deletion the list manager will get the cal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ist Practic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ists and List Elements are used across the stat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ot Area Agency specific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 List Manager or Development Team Member can change a lis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dding to a Lis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asy &amp; intuitiv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leting From a Lis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You can’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ata may have been used historical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ctivate rather than delet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11:25:12Z</dcterms:created>
  <dc:creator>Jim Connell</dc:creator>
  <dc:description/>
  <dc:language>en-US</dc:language>
  <cp:lastModifiedBy>Jim Connell</cp:lastModifiedBy>
  <cp:lastPrinted>2000-07-31T17:11:53Z</cp:lastPrinted>
  <dcterms:modified xsi:type="dcterms:W3CDTF">2003-12-17T17:37:12Z</dcterms:modified>
  <cp:revision>241</cp:revision>
  <dc:subject/>
  <dc:title>DUCK</dc:title>
</cp:coreProperties>
</file>