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372A-0D74-4E9E-8AE8-C192A6C42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min Me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Event type if you go in as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dd new click the new but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only control those you man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90DF-9C8B-4624-ADD3-6C5A906E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E727-B75D-40EA-80EE-F9E227F5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EFE1-0687-4659-8142-4978A692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85FC-6B55-4360-B1B7-274E2990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7F89-06F7-40F9-8DF9-40CF3CBB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1199-5A94-4296-9F77-D1253205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2EFB-F5AB-4402-AF03-326A3CFF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8670-DE2D-4A95-BCCE-5A7359B1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6A1E-1CCF-4CFE-A394-04A687F0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8D43-4889-49D0-BC67-EBDCB596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E038-BD97-439D-B7D9-A8BF9FFA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B9E9-A1D8-4B81-A95A-AC33FFAB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7B49-7417-45A3-994D-9AC84E98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CF6A-F429-4319-AF9E-394874B5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84E4-114C-434E-93CB-8741EA14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DC38-8F88-4EC9-B7FD-DE6F85F5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1D20-79E8-4028-9777-E43CDD6E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60AD-C84C-4B70-A1A0-D2560069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FC1-03FF-4589-8F7D-55A5433D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360-98D3-4AAC-A233-3A4294F2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1E25-1EA7-499B-A0C8-F302AE0A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D29-5957-417A-AE4D-84FC0FA0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6DA5-9485-44A1-9CF7-A152C27A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726-2DCB-479F-81D9-9D7F7D14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1B4C-5182-46C0-8430-62581833FB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63DD-AE03-4FCD-9E77-125652D707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ist Manag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3" name="BS01029_" descr=""/>
          <p:cNvPicPr/>
          <p:nvPr/>
        </p:nvPicPr>
        <p:blipFill>
          <a:blip r:embed="rId2"/>
          <a:stretch/>
        </p:blipFill>
        <p:spPr>
          <a:xfrm>
            <a:off x="3200400" y="2743200"/>
            <a:ext cx="28130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hanges to a List - The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mple e.g., fixing typo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Just make the chang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Qualitative e.g, Adding a new Eligibility 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et other people who can help you reach consensus on the issu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hanges to a List Practi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han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hen you make a change to an existing list element all of history is changed to reflect that chang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on’t do this casual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activate/Reactivat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4" name="j0213519" descr=""/>
          <p:cNvPicPr/>
          <p:nvPr/>
        </p:nvPicPr>
        <p:blipFill>
          <a:blip r:embed="rId2"/>
          <a:stretch/>
        </p:blipFill>
        <p:spPr>
          <a:xfrm>
            <a:off x="5943600" y="3962520"/>
            <a:ext cx="2038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mo Tim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8" name="bd00028_" descr=""/>
          <p:cNvPicPr/>
          <p:nvPr/>
        </p:nvPicPr>
        <p:blipFill>
          <a:blip r:embed="rId2"/>
          <a:stretch/>
        </p:blipFill>
        <p:spPr>
          <a:xfrm>
            <a:off x="2471760" y="1981080"/>
            <a:ext cx="4200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y a Lis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our Role in the Appl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actice of Lis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dd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hang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ist Theory 101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group of like elements that replaces a table in the softw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efore and After sampl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ist Management Advant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dding a new list is eas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ne logic engine to manage many list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evelopment is more effici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ebugging is more effici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mpowers Users to manage the softwar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llows software to be dynamic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Users can change the software without calling in the Development Team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ist Management Disadvant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ecause we’re using a power tool it’s easier to cause problem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at’s why we’re here toda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ist Manger Ro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ovide the Appropriate List eleme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ent Redundanc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unicate with the user community when you make an important chan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ll changes to a list will go through the list Manag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f a user wants a change, addition or deletion the list manager will get the cal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ist Practi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ists and List Elements are used across the stat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ot Area Agency specific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 List Manager or Development Team Member can change a lis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dding to a Lis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asy &amp; intuitiv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leting From a Lis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ou can’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ta may have been used historical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ctivate rather than delet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11:25:12Z</dcterms:created>
  <dc:creator>Jim Connell</dc:creator>
  <dc:description/>
  <dc:language>en-US</dc:language>
  <cp:lastModifiedBy>Jim Connell</cp:lastModifiedBy>
  <cp:lastPrinted>2000-07-31T17:11:53Z</cp:lastPrinted>
  <dcterms:modified xsi:type="dcterms:W3CDTF">2003-12-17T17:37:12Z</dcterms:modified>
  <cp:revision>241</cp:revision>
  <dc:subject/>
  <dc:title>DUCK</dc:title>
</cp:coreProperties>
</file>