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23D5-4949-4F23-B919-3B9059359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:\Data\ACCESS\Other\ADSP Billing Database.m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to E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Full Erwin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:\Data\ACCESS\UDS\Orig.m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9B33-3502-417E-B1B3-6EE74EAFB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BD04-D8B5-4F82-83EB-C4B10780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533D-F3C0-48D8-9867-1BC779BD5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9997-2F37-442F-8A98-71C1E50F0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C73B-1C28-4C44-9D07-8A7389165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0FEC2-5AE7-44BE-AE0C-12F7290E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1FED-4694-4FA9-94AE-7947878A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8406-BFFA-4535-8A22-9B15199B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F58D-9754-4970-86B6-B8C4415D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AEBC6-10AF-4EB1-8EAD-8A97520C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D33E-7AAB-47F7-BE80-D023C393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1076-5814-4051-8CB7-0E5DA2E3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D5A6-A845-473A-9DED-D1934C36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ECBD-2D53-4B53-82BB-36A522B3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8F47-67FC-4F5E-8DC2-98CDFD15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C0FC-41FD-485F-9E32-7263F38CC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DC18-5874-42A5-9B31-9713B7185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2F66-7CD8-4D5E-8695-BC152E85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7EF0-84ED-42E0-BFBF-BB109B53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B6EC-AB7A-4333-A8FD-EAB9F3AD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DA52-5DC4-4110-BD7C-45FA2BEC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8E29-D6E6-4CCC-8ADC-9F819B62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808D-C91A-4DDD-95E8-56F14699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4495-9CE5-4E16-999C-17541EC3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Jim Connell</a:t>
            </a: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62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www.custom-software.bi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429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64BA-8FB3-4A31-9745-D59A16D661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A677-7086-40F2-B524-B83F92B926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ustom-software.biz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hyperlink" Target="http://images.google.com/imgres?imgurl=www.aeb.org/recipes/basics/images/2458_Scrambled_Eggs_4.jpg&amp;imgrefurl=http://www.aeb.org/recipes/basics/scrambled_eggs.htm&amp;h=259&amp;w=401&amp;prev=/images%3Fq%3Dscrambled%2Beggs%26start%3D40%26svnum%3D10%26hl%3Den%26lr%3D%26ie%3DUTF-8%26oe%3DUTF-8%26newwindow%3D1%26sa%3DN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base Modeling</a:t>
            </a:r>
            <a:br>
              <a:rPr sz="4400"/>
            </a:b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How to Model People &amp; Relationship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334120" y="3657600"/>
          <a:ext cx="2087280" cy="2390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4120" y="3657600"/>
                    <a:ext cx="208728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523880" y="3886200"/>
            <a:ext cx="25974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rror Show – Part II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:\Data\ACCESS\Other\ADSP Billing Database.mdb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886200" y="2666880"/>
            <a:ext cx="373392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ther Normal Form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oyce-Cod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cademics love these thing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l world developers would rather have a another be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eople Modeling Tables – Generic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ddres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elepho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lationship 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ent – if Client Centri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Problem with Peop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ur natural instincts will get us into trou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895480" y="2743200"/>
            <a:ext cx="457200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Problem with Relationship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ur natural instincts will get us into trou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ce they want one they’ll decide they really need twelv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y’ll figure this out once you started coding the app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791320" y="4952880"/>
            <a:ext cx="137160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Goal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 person exists once and only onc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 person can have an infinite number of relationship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 user should be able to add relationships without the developer getting involv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 person can have an infinite number of telephone numb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n to the Show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Benefi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asier to get more complex info 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 person exists only onc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Updates are much easie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You don’t have to predict what will chan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s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ess Intuitiv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35" name="bd00028_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33526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Quotes from Access Day Nov 19, 2003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way you have your table structure is giving you grief - Dean Serrentino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ructure is everything in databases – you are limited (in your application) if you don't get it right - John Giuliano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 knew table design would come into it at some point – Anonymous Develop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sour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atabase Design for Mere Mortals – Hernandez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Tahoma"/>
                <a:hlinkClick r:id="rId2"/>
              </a:rPr>
              <a:t>www.Custom-Software.biz</a:t>
            </a:r>
            <a:r>
              <a:rPr b="0" lang="en-US" sz="3200" spc="-1" strike="noStrike" u="sng">
                <a:solidFill>
                  <a:srgbClr val="ccecff"/>
                </a:solidFill>
                <a:uFillTx/>
                <a:latin typeface="Tahoma"/>
              </a:rPr>
              <a:t> for this pres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Normalization – The Readers Digest Vers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Problem with Peop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mo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NB: All Names have been scrambl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99" name="HH02496_" descr=""/>
          <p:cNvPicPr/>
          <p:nvPr/>
        </p:nvPicPr>
        <p:blipFill>
          <a:blip r:embed="rId2"/>
          <a:stretch/>
        </p:blipFill>
        <p:spPr>
          <a:xfrm>
            <a:off x="6400800" y="685800"/>
            <a:ext cx="1523880" cy="1392120"/>
          </a:xfrm>
          <a:prstGeom prst="rect">
            <a:avLst/>
          </a:prstGeom>
          <a:ln w="0">
            <a:noFill/>
          </a:ln>
        </p:spPr>
      </p:pic>
      <p:pic>
        <p:nvPicPr>
          <p:cNvPr id="100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00800" y="5105520"/>
            <a:ext cx="136044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rror Story to End all Horror Stori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371600" y="1828800"/>
            <a:ext cx="5500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ormalization – Who Ca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dundant data leads to inconsistent data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more times you enter the same data the more likely you are to make a mistake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the data changes (new address) you have to change the data in many place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ormalization – First Normal For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rst Normal For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tomicit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Each field contains a single piece of data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rst Name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Last Name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Not Full name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Non Duplicative Column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void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Phone 1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Phone 2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irst Form Benefi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voids Need to Pars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dding another “type” of something becomes no big dea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ond Normal For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ncludes First Normal Form Plus ..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move Redundanc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epeating data should not occu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e.g. 5 people working for the same company – company should appear only once not 5 time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ove to separate tabl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ird Normal For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Normal Form Plus ..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move Dependenc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ach Field should be completely dependent on the Primary Ke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o data stored that can be arrived at from the other column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E.g., Avoid  Price x Units = Total Cos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0T11:25:12Z</dcterms:created>
  <dc:creator>Jim Connell</dc:creator>
  <dc:description/>
  <dc:language>en-US</dc:language>
  <cp:lastModifiedBy>Jim Connell</cp:lastModifiedBy>
  <cp:lastPrinted>2000-07-31T17:11:53Z</cp:lastPrinted>
  <dcterms:modified xsi:type="dcterms:W3CDTF">2004-01-14T18:37:06Z</dcterms:modified>
  <cp:revision>220</cp:revision>
  <dc:subject/>
  <dc:title>DUCK</dc:title>
</cp:coreProperties>
</file>