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CB08-625B-4BCF-BE74-D7C06BB26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:\Data\ACCESS\Other\ADSP Billing Database.m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E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Full Erwin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:\Data\ACCESS\UDS\Orig.m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5F5D-13A5-4B52-9A0C-C1AB767A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25EB-F27A-48EE-AFFD-AD183B5F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115D-2788-4943-8F49-C440782AB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7770-0274-4DEF-B92B-1ACE7B7A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5E11-7D6C-44D5-90EB-67274B22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A004-5F24-4C93-897E-C129407F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4D8D-4C50-40A0-8AA6-5FC27468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E047-301C-431C-9F13-5E658A48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9A63-CDE9-4526-B17E-5D024A09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9E5B-92B5-4BAD-A05F-CD67A356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798C-7D4E-4558-B2A4-0897C1D2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6036-20E9-44E8-A4A2-09B06EEB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828C-67BF-48A8-9CB1-465C5C67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17B9-8CA4-49C2-9744-66BC2C4C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CBED-0588-4642-A15C-56A2E02A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7993-5E5E-44B3-A3AA-B8BFBD19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818C-1545-40BB-AA7F-6C3B7884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2230-E26C-496E-83A4-142CECCE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A27C-F538-412D-B411-B7A1A926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2061-A803-4779-98CC-30E0489F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E070-77C6-4FD1-BA00-41C11307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F674-342C-4F48-8946-DEC71EAF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9758-3DDB-43CA-BF3F-25CA2A96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6534-B77B-4BCE-9908-F829212F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Jim Connell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62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www.custom-software.bi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9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143E-5CFA-485A-B24C-27A4DEB55D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C718-A015-4B2D-A433-C534DA47E4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ustom-software.biz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hyperlink" Target="http://images.google.com/imgres?imgurl=www.aeb.org/recipes/basics/images/2458_Scrambled_Eggs_4.jpg&amp;imgrefurl=http://www.aeb.org/recipes/basics/scrambled_eggs.htm&amp;h=259&amp;w=401&amp;prev=/images%3Fq%3Dscrambled%2Beggs%26start%3D40%26svnum%3D10%26hl%3Den%26lr%3D%26ie%3DUTF-8%26oe%3DUTF-8%26newwindow%3D1%26sa%3DN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base Modeling</a:t>
            </a:r>
            <a:br>
              <a:rPr sz="44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How to Model People &amp; Relationship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334120" y="3657600"/>
          <a:ext cx="2087280" cy="239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3657600"/>
                    <a:ext cx="208728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523880" y="3886200"/>
            <a:ext cx="2597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rror Show – Part II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:\Data\ACCESS\Other\ADSP Billing Database.mdb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886200" y="2666880"/>
            <a:ext cx="373392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ther Normal For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oyce-Cod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cademics love these thing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l world developers would rather have a another be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eople Modeling Tables – Generic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ddres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elepho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lationship 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ent – if Client Centri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Problem with Peop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ur natural instincts will get us into trou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895480" y="2743200"/>
            <a:ext cx="45720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Problem with Relationship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ur natural instincts will get us into trou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ce they want one they’ll decide they really need twelv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y’ll figure this out once you started coding the app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791320" y="4952880"/>
            <a:ext cx="13716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person exists once and only on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person can have an infinite number of relationship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user should be able to add relationships without the developer getting involv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person can have an infinite number of telephone numb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n to the Show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enefi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asier to get more complex info 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person exists only on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Updates are much easi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You don’t have to predict what will chan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s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ess Intuitiv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5" name="bd00028_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33526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Quotes from Access Day Nov 19, 2003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way you have your table structure is giving you grief - Dean Serrentin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ructure is everything in databases – you are limited (in your application) if you don't get it right - John Giulian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 knew table design would come into it at some point – Anonymous Develop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sour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atabase Design for Mere Mortals – Hernandez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www.Custom-Software.biz</a:t>
            </a:r>
            <a:r>
              <a:rPr b="0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 for this pres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ormalization – The Readers Digest Vers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Problem with Peop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m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B: All Names have been scrambl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9" name="HH02496_" descr=""/>
          <p:cNvPicPr/>
          <p:nvPr/>
        </p:nvPicPr>
        <p:blipFill>
          <a:blip r:embed="rId2"/>
          <a:stretch/>
        </p:blipFill>
        <p:spPr>
          <a:xfrm>
            <a:off x="6400800" y="685800"/>
            <a:ext cx="1523880" cy="1392120"/>
          </a:xfrm>
          <a:prstGeom prst="rect">
            <a:avLst/>
          </a:prstGeom>
          <a:ln w="0">
            <a:noFill/>
          </a:ln>
        </p:spPr>
      </p:pic>
      <p:pic>
        <p:nvPicPr>
          <p:cNvPr id="100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5105520"/>
            <a:ext cx="136044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rror Story to End all Horror Stori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5500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ormalization – Who Ca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dundant data leads to inconsistent data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more times you enter the same data the more likely you are to make a mistake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the data changes (new address) you have to change the data in many plac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ormalization – First Normal For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rst Normal For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tomicit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Each field contains a single piece of data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rst Name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Last Name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Not Full name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on Duplicative Column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void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Phone 1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Phone 2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irst Form Benefi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voids Need to Pars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dding another “type” of something becomes no big dea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ond Normal For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ncludes First Normal Form Plus ..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move Redundanc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peating data should not occu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e.g. 5 people working for the same company – company should appear only once not 5 tim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ove to separate tabl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ird Normal For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Normal Form Plus ..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move Dependenc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ach Field should be completely dependent on the Primary Ke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o data stored that can be arrived at from the other colum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E.g., Avoid  Price x Units = Total Cos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11:25:12Z</dcterms:created>
  <dc:creator>Jim Connell</dc:creator>
  <dc:description/>
  <dc:language>en-US</dc:language>
  <cp:lastModifiedBy>Jim Connell</cp:lastModifiedBy>
  <cp:lastPrinted>2000-07-31T17:11:53Z</cp:lastPrinted>
  <dcterms:modified xsi:type="dcterms:W3CDTF">2004-01-14T18:37:06Z</dcterms:modified>
  <cp:revision>220</cp:revision>
  <dc:subject/>
  <dc:title>DUCK</dc:title>
</cp:coreProperties>
</file>